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5ED-7129-44EA-A72C-5F601460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C41-0247-4AA5-AF53-E7FC8E12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94AD1-792C-45B5-99B6-C6DE8081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41DF4-BE40-4845-B932-F9222902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2713D-F67A-4457-98F7-CA96D993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04F31-2A67-41C9-B6D0-536F4294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C06B1-B4A7-4D35-8BB5-BCA6C93D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AB8BA-DC1C-4A30-9C3B-388E0E2B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24A1D-9572-4578-B941-7950ED28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CCCFA-BCE5-4002-BFB2-B19BE7A5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BA52A-6425-4DDE-9080-BB1FA343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02992-36B5-4829-B819-FD605825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A0C-E0C6-45F2-8647-1BEF9FD6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F2CAE-23B5-4C9E-8E29-3152D790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110E7-CFA4-4AA9-8EC8-09A23AEA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61FDF-C63A-4DBA-A1BC-A6EBEAFD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47FE5-78F6-4CAB-88B2-93AC9A7E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4C5FB-61B7-49DE-81E2-93C43B86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9FF87-FDF5-4FF6-ADB5-FE04996D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114B0-FF5D-4A46-9838-0DD6262D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F9DB2-C5BE-492D-A9D8-F1123B76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54DDF-655E-48A3-A806-FC8593B8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39827-FE9B-47D0-9337-2CBC2F62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092-BE87-4BDF-BFB5-DEEB2AC5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A04AB-2439-4AB4-B9C4-EF906A06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25460-688E-4099-A51C-A4A326A0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FEAD8-C50C-41EE-920B-CE5CC22A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B2EB3-1A07-4E08-8B03-1D4015DE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B3618-96E2-44BE-AD7D-3D5F10FB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B604B-69A8-474C-9ADA-7CDF5C07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CC7F3-7A8E-4723-84F2-A0F9A41D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397C0-6DA9-475D-995B-0710C1D1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2424B-CCFC-40E7-A5E9-A0B7EA7E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AD710-5180-4A38-AC7A-0E9C1EFC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E7B3-7D59-4FAF-828F-205CDE11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FF54E-E809-43FE-B667-EF547513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09540-3919-4291-A078-50F55997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4815C-138A-4C24-A10D-0EBD492E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2EB24-B53B-468C-A960-4C7FF0CE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70116-BDDA-43A3-A4B5-6A1B4CB6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1D4EF-AE85-46E2-A38B-8E2E2F4B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0FAB9-063D-41CB-B9DB-F9D70AD8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0AF28-FB33-4DBE-8928-88A0A889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E932B-F8A8-4E21-BA90-70145833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6B9BC-D9A3-43A2-A0D4-CEE7CD24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3296-7015-47B1-AF8F-4F95E23F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804D0-197A-458A-851C-3322C8FA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7120D-A183-4731-844A-F70CDB9F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DB3DE-2012-42FB-A2E4-6C870512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04059-D74E-4776-89B1-2C1601E7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5BC87-E733-4996-860D-C51AA691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16E55-C3A5-4BEF-8949-E903A188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2ACDF-84D8-4F83-8378-AB6A6765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4ED79-B432-48A0-B787-CFF1BEC3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E7FB1B-80D7-4155-8BE8-E2C1985C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4B7B5-69E5-4BD5-A53D-F2E401AB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4709-ACE3-4D51-9BCC-B1456196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B67FF-BA01-4DDC-8C2D-A23483F3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01A85-6490-4C58-B301-FE3DD774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76A79-81BB-4910-9C8A-14537D24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CF4C9-26C6-427D-B685-9D666B10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56847-4EB1-4DDB-A87D-A51008A8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16D5A-4CA9-428F-94E4-198544AA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01650F-4D00-46FC-8138-3142ACBF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E7B19-037F-4C33-8E79-63FC6094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2E14AB-5819-468B-BAE4-483F9C2D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4150F-F19C-46A2-BF69-8E236288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F725-1C13-485F-A758-F4F5CD6A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475CA-0767-4BC5-A48B-0E36B38D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AABD6F-46B8-4E79-AD1F-3666F721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56A16-5BAD-45FE-8BA7-F8858A81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63F7DC-640D-4181-B5CC-39C529FC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339AB-0ECD-4457-B251-F786EF54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43DAA-5C3A-4DE7-8FAA-6E304955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20F18F-C975-4E32-A0B1-0D7C72F0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578FDB-11E5-44D2-A89A-48E4107C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E4ECB3-B8A6-4767-A88B-1D879002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B19184-9263-40E6-8705-FBFBDECD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7A4D-AF1F-43B1-886B-ADA0B93F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0A0CBD-AAA7-4195-ABA1-135611EB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B3652D-32E6-4220-8843-ACF6C2F4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49FA4-21A1-4EA5-93DB-81DA8EF9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2F3B00-9CEB-452A-AF59-9E82E648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3AF1BD-9C83-4BB8-BB43-E8DB9F6C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59E05F-347E-4901-8E66-7D1BB39B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BC4592-EE76-49EA-BEB7-0A097F39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DFF6B4-8F31-4C4C-A504-5370B27E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638ED4-D168-4E15-AF08-830F1E9F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622530-5EAB-4582-81FD-8CF452DE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D713-430A-4B40-9101-03520C03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1E192A-DFF2-49B7-913F-8FECB3B1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64E3DF-809F-48EF-8450-7DD3B035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8155DC-B1E4-4BCF-A121-39971E9B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2980C2-89BC-4406-8E98-9E75464B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10D8A7-8B23-40AF-AD0B-3FE20FB0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D2C1D-CE9C-4A70-8B80-AEF202E6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417F50-3C81-492A-9848-D7E4F580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926325-D4C3-4270-A214-93A25EE9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E50B46-15E0-4788-A920-D102C921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877839-57DB-4FAD-B7D4-E803C688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E7C3-469C-41E2-8BBF-0906B9C6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6F9F99-F47F-4B51-B674-28842F3A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A9F976-A73E-471D-9A16-203E37A3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215AE0-4291-4B14-936A-73CCF9CF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202481-EF17-42A3-90B7-FE0869AB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19B24D-C932-4F0D-BDE1-15ABA603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1AC9B2-9A8E-4675-B9E6-CEB1A1DA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14428E-560C-48A3-94BA-B655E2BE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518531-F941-41A9-95FB-9325FC58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318D8-3E75-4D40-8569-D5E5BC06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B4CB30-FAB9-40E0-8A10-9594C265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546-C032-4357-B0A5-79F011E7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B9CF-9069-45F4-991C-306E0302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E49B59-63DF-42D6-9CFB-A4A73082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7320B0-601F-498A-87F2-4CFBED9A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D98CE5-B538-406D-8AEF-05EE8F43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0A6CE-0D28-411E-B2BA-2EE2DED7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A03701-1B21-49A6-9505-0714E077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15AEB7-9C48-4834-BEA3-FA0E814C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CB5C4D-23C2-4EBF-A9A7-D1E84700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4196F-7D47-4443-9AFF-988314AD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ED36F9-3578-490E-924C-E77A2345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A2F63A-B05C-434B-90FC-BC14250C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7FD6-A810-423C-9190-3FD19F15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448318-3552-4226-8EAA-3FC05DA0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365749-123C-4541-AC4B-8058E535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588DB8-7A14-40FB-AABD-D90B05E6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527697-6DE7-4364-81FA-3080880B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9A19C7-8EEE-4F69-8EDD-0CDCDDBE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262DEA-880E-467F-B037-B4752FB3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CC98F0-E111-4F7B-B5A7-A772F8DF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0C65FA-DFB5-41DB-BF74-0C1659A5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D3C168-B164-489B-94E5-78FE5A10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B01B19-7BF3-4EC9-8569-16DFC14F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BCD1-C8A9-482F-945F-216B0723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4404A9-4AB6-40CF-8F9B-1188338D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73C8EC-FB8E-4375-8F60-AA85153B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2B8B87-E6A3-483F-B997-2FB47D75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00770A-BB76-4E94-BFF9-EAFB0044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8229EF-113D-4671-A34A-0243D42B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55559F-6198-4ABD-8CDC-CA0F2F83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7DA42D-427F-4108-BE59-69FC578C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AC2E5E-A207-4710-BB0D-B9923361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12AF7F-7117-4830-BFFC-E2F6EA51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C5AB90-91D5-4776-9A62-313249CB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708E-C38C-4C4B-8E2B-9B992C21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5FBFEB-18D2-4564-928D-FE53CB69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3ADCC6-6331-4D6C-B66E-9DB7A451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8A38A5-D610-4F73-B4D6-3CC82C86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A69840-88D1-456B-9A0F-3456AA9C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18E2B4-C916-451F-B91B-9252CB47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538511-DB8B-43D4-BBBF-5EC6749B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B0031F-AAFC-498F-9E7E-29D0B5C0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EDA76E-1D41-451A-BE13-1C43A1A9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D4D453-1E15-4565-8095-B72CF68B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5C6B40-5E61-4ECC-B6E3-454F43E1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F9A1-C0E7-4236-B12D-05A8480D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A25E6D-701D-4BF0-AFC2-E79A2F7F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96784B-D122-47BE-B0BC-6D7A1FE2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0D441A-AFE0-4C87-8E71-C95240F4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129F2C-37F7-46AD-966F-A4677035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031193-F6DC-40EA-8BD9-9155761F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4892E7-B186-4124-A951-A036E542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EB420D-04EF-4C82-85A1-4B34FC22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6BA2A4-E690-4BE2-8D48-C3777E2D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3197C0-5913-422A-9746-7F4886BB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BB46FB-7CAE-4F21-9861-000A96BB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ECFF1-F9AA-4BD2-A770-C9C8E345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9BD1A1-A2B8-4B43-977A-E12CCF97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83FF2B-B8C4-4D5F-A6B8-25E56EF7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CA42CC-65B5-4382-97FE-B252D8E3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2E2C-A391-4121-B395-BDAEDE13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6FF6E-B501-433D-8FE9-74434386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DD1C5-8BDE-4914-8191-82F02E00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0BB75-648B-43C4-9715-A9713198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099-9695-42EE-9805-731C9289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EB7C-5F79-4557-BA81-C2F13C8E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67F5A-F170-43D8-9E0C-9851FD33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692FA-EA9E-4544-BCF8-91EED032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BE2E8-3233-4132-B596-4393C562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34BE1-24EB-493C-8BD0-AAA70A26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E26EC-514E-48DB-B20F-FA307C07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8C05A-D57A-4410-B11F-5A80062C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927C5-BE97-405A-B478-D9A2F944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0FBD2-7856-44EC-A6D3-68DF357B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30951-5FB8-4E26-B7EE-47D142B5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10B-99AD-427E-80DF-6117C0CE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F374D-1AC1-45BC-A7DE-38A4AE39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97377-D5B4-4A8A-A24C-679CC8A0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392FD-3090-40C5-9B61-AB6FE845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0B2E8-FD97-4A0B-A205-97731CEC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55E20-A8DB-442E-AD93-54A41E88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8D465-B120-4D59-9F7F-B44B5EF8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00001-B5EB-4644-A333-6DD2B967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92717-2D64-4B20-96C8-9D5ACE49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BCC6A-DCCA-4B7F-A153-0E8A874A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9D8A8-FC57-4EEE-A387-431CB6A6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5DC-A0DB-446E-9850-D3A880A5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2F30D-3BAF-4455-89B9-9890EC15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296E0-67CE-46F8-8E35-35285907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8F896-BE03-4DB6-BC0A-3B3E9171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C9261-7242-4E8C-94A6-81E358D2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6B3D6-D506-4326-9618-BE260CA8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816D2-BDE3-401C-A3C9-4AD14212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EB224-3F5C-41C7-85C8-44C4782C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0A776-9A81-49E9-933F-F2F16B7A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C531A-980C-4B5B-BE8B-8DCF7DAD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73E1E-2F3D-4CE6-972A-54CA9096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9F1-7783-435C-9AA0-319BC252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C40E6-BBDB-4F84-A372-358CF031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2F89A-8214-4C0A-963C-8FFE95AB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7BA66-F1EB-4243-B735-4D2610AA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F20F1-E707-4898-B116-EE9663C2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20D1D-2E8A-49A7-8376-31F41B12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262BC-6265-4639-AD7D-69657DE3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A0C84-7AC1-43E3-8BC4-37CD02BC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B8208-5E4D-436E-8057-A47AB6F1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219B0-4718-4191-B874-A460CC80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29828-6865-4FDF-944E-6216EDA8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B69-EE71-4F82-881C-9D21E4C5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F3005-E3BC-4F5D-886C-375DF023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3DEB7-C7B7-46B7-AE27-695F9AE8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81BA7-9E7C-499D-BA2B-D7FDDC85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6E52A-B541-435A-BDAB-E899BB4C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5347F-18DF-4BE0-B772-9FD153D9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C231C-A412-4E1B-B18D-A4C0D9E0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8F09F-26C7-4D56-8DEA-988EE80A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FA985-0DCD-45D8-ACCD-A7137ABB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D7FA7-8818-44B1-9B40-6EF8C4FE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40B91-4D1A-481E-9E9D-8994221D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219-4715-48AD-89C1-5D27EE8D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3714E-8184-4064-99E5-4CD6C12A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8604B-1CB1-4645-8769-FCC3C8EC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E5A3C-C8DA-44F4-8600-45C82FE1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B3AAE-62CF-45E0-9580-504EEA11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A1FD9-F94A-469A-9563-C72C215D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B29F4-FA56-4BDA-A15E-99411573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985DE-577F-46F8-B281-215FB379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2594E-F52A-4503-B764-2F409C7A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E9805-93D4-445E-B698-6091CAC8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DDF56-2E5B-43A4-A1EF-F9CD10B1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EEE-6776-4D0D-A6B6-1B11E2EC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EBCE8-B2E2-4D66-B298-327D3C94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84D05-34C8-479B-B5BD-39ACFE4F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23696-E471-4D6A-B040-6932A7C0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EFC06-699D-4745-9F14-21C5EE80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68E54-1139-40B2-B9AB-8B054AE8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FEA49-FBE6-4469-88EA-3F21AE63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85B53-1E68-40DE-B7C2-191BD152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5310C-C498-4B15-88DC-8F02CB87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03A09-7BD8-484B-B4F6-5A5586A2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57F76-7B4A-4EB6-AD19-21822C75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E177-1F41-4692-8475-376D22D78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CBBB-FA99-4C5B-B26D-D5927E2629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C862-75A3-407E-A36E-3917ACB471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EAC8-4AE6-4D98-AC51-833DC14042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954A-0EEC-4323-847D-1C085C5CAB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057B-6BF3-4F38-8B12-686AA2860C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C728-5AED-49C4-8E68-1BFDEC7F76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0719-46A6-4108-8340-0E672A7A2A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4A33-A5B9-4739-A333-CAD74F6159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821B-D0E3-4770-99B5-CD770F3831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D1C7-5358-44D8-98B7-90AC151BAB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10AE-A9CC-4D2B-8850-8D40ACA9A8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D05E-3B6D-4415-A82C-E775986F9B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2B24-0A8D-4AA3-ABE0-4FA1F171C9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BF87-E17C-4D62-A09D-7B572A0E74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732A-9D09-4672-BB83-D733DBABDB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9CAA-A137-43BA-A018-784446D6FF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3EA8-FD7F-42BC-86E9-56E5AF8CD3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5F17-8948-4575-98E4-EE79D25923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9210-29C7-4290-8C90-5CBD8591BE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8B1B-6134-4922-8CD3-1A3A0994EF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B356-75F9-44E7-802E-A8677124D9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A293-AB40-420A-9618-BA84C6D40D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A7F2-CF40-44D0-B418-1841B90899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F395-968C-4960-951E-073D2C8F9C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2A5C-C4FB-4992-984B-6B80E0340A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646E-5863-4F6B-BD24-816A9390F1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6A60-B060-499E-8EBA-7507F5E7D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A6FE-BD20-4DC5-BEAB-3464E285CF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FAB5-EAF5-4A51-AD09-7907C8D42B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0BE3-56CD-4786-8F33-D42DB45D7D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87C3-37CA-489C-BE7C-044F9103EB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2D25-3EE2-4CC5-A5F3-EB5924E0C3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E45B-CB3A-4BB5-8033-42AD0B0FBF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42DD-49D1-484A-889E-E9D45F3B89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A724-1290-48C4-BEA3-5266617EF6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3A76-AB59-4528-B28D-C4E30B279E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4D2D-E3E8-4F46-A0E3-17645A2C98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9813-76B7-4185-98F7-56110AF32D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C215-25C8-4A8C-889E-B2733EB9E4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4786560" cy="6555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2428920" y="2500200"/>
            <a:ext cx="4133880" cy="6001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3"/>
          <a:stretch/>
        </p:blipFill>
        <p:spPr>
          <a:xfrm>
            <a:off x="2428920" y="3357720"/>
            <a:ext cx="42289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714240" y="1143000"/>
            <a:ext cx="6391440" cy="4886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2"/>
          <a:stretch/>
        </p:blipFill>
        <p:spPr>
          <a:xfrm>
            <a:off x="285840" y="2560680"/>
            <a:ext cx="8786880" cy="7286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3"/>
          <a:stretch/>
        </p:blipFill>
        <p:spPr>
          <a:xfrm>
            <a:off x="285840" y="3440160"/>
            <a:ext cx="8786880" cy="7286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4"/>
          <a:stretch/>
        </p:blipFill>
        <p:spPr>
          <a:xfrm>
            <a:off x="285840" y="4325760"/>
            <a:ext cx="8786880" cy="7290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5"/>
          <a:stretch/>
        </p:blipFill>
        <p:spPr>
          <a:xfrm>
            <a:off x="285840" y="5183280"/>
            <a:ext cx="878688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785880" y="1071720"/>
            <a:ext cx="7124760" cy="53146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2"/>
          <a:stretch/>
        </p:blipFill>
        <p:spPr>
          <a:xfrm>
            <a:off x="285840" y="15717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3"/>
          <a:stretch/>
        </p:blipFill>
        <p:spPr>
          <a:xfrm>
            <a:off x="285840" y="205092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4"/>
          <a:stretch/>
        </p:blipFill>
        <p:spPr>
          <a:xfrm>
            <a:off x="285840" y="25002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5"/>
          <a:stretch/>
        </p:blipFill>
        <p:spPr>
          <a:xfrm>
            <a:off x="285840" y="307188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6"/>
          <a:stretch/>
        </p:blipFill>
        <p:spPr>
          <a:xfrm>
            <a:off x="285840" y="362268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7"/>
          <a:stretch/>
        </p:blipFill>
        <p:spPr>
          <a:xfrm>
            <a:off x="285840" y="500544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8"/>
          <a:stretch/>
        </p:blipFill>
        <p:spPr>
          <a:xfrm>
            <a:off x="285840" y="545472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9"/>
          <a:stretch/>
        </p:blipFill>
        <p:spPr>
          <a:xfrm>
            <a:off x="285840" y="5943600"/>
            <a:ext cx="878688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642960" y="1500120"/>
            <a:ext cx="7267680" cy="38480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2"/>
          <a:stretch/>
        </p:blipFill>
        <p:spPr>
          <a:xfrm>
            <a:off x="285840" y="207180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3"/>
          <a:stretch/>
        </p:blipFill>
        <p:spPr>
          <a:xfrm>
            <a:off x="285840" y="255096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4"/>
          <a:stretch/>
        </p:blipFill>
        <p:spPr>
          <a:xfrm>
            <a:off x="285840" y="30002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5"/>
          <a:stretch/>
        </p:blipFill>
        <p:spPr>
          <a:xfrm>
            <a:off x="285840" y="3530520"/>
            <a:ext cx="8786880" cy="800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6"/>
          <a:stretch/>
        </p:blipFill>
        <p:spPr>
          <a:xfrm>
            <a:off x="285840" y="4479840"/>
            <a:ext cx="878688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6715080" cy="2781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2" descr=""/>
          <p:cNvPicPr/>
          <p:nvPr/>
        </p:nvPicPr>
        <p:blipFill>
          <a:blip r:embed="rId2"/>
          <a:stretch/>
        </p:blipFill>
        <p:spPr>
          <a:xfrm>
            <a:off x="752400" y="3865680"/>
            <a:ext cx="5819760" cy="28000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3"/>
          <a:stretch/>
        </p:blipFill>
        <p:spPr>
          <a:xfrm>
            <a:off x="285840" y="201132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4"/>
          <a:stretch/>
        </p:blipFill>
        <p:spPr>
          <a:xfrm>
            <a:off x="285840" y="257184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5"/>
          <a:stretch/>
        </p:blipFill>
        <p:spPr>
          <a:xfrm>
            <a:off x="285840" y="314316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6"/>
          <a:stretch/>
        </p:blipFill>
        <p:spPr>
          <a:xfrm>
            <a:off x="285840" y="436248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7"/>
          <a:stretch/>
        </p:blipFill>
        <p:spPr>
          <a:xfrm>
            <a:off x="285840" y="479124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8"/>
          <a:stretch/>
        </p:blipFill>
        <p:spPr>
          <a:xfrm>
            <a:off x="285840" y="52196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9"/>
          <a:stretch/>
        </p:blipFill>
        <p:spPr>
          <a:xfrm>
            <a:off x="285840" y="571968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10"/>
          <a:stretch/>
        </p:blipFill>
        <p:spPr>
          <a:xfrm>
            <a:off x="285840" y="6180120"/>
            <a:ext cx="87868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957240" y="2162160"/>
            <a:ext cx="7229520" cy="25336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2"/>
          <a:stretch/>
        </p:blipFill>
        <p:spPr>
          <a:xfrm>
            <a:off x="285840" y="27147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3"/>
          <a:stretch/>
        </p:blipFill>
        <p:spPr>
          <a:xfrm>
            <a:off x="285840" y="320364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4"/>
          <a:stretch/>
        </p:blipFill>
        <p:spPr>
          <a:xfrm>
            <a:off x="285840" y="357192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5"/>
          <a:stretch/>
        </p:blipFill>
        <p:spPr>
          <a:xfrm>
            <a:off x="285840" y="4086360"/>
            <a:ext cx="878688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1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6257880" cy="38196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2" descr=""/>
          <p:cNvPicPr/>
          <p:nvPr/>
        </p:nvPicPr>
        <p:blipFill>
          <a:blip r:embed="rId2"/>
          <a:stretch/>
        </p:blipFill>
        <p:spPr>
          <a:xfrm>
            <a:off x="709560" y="4819680"/>
            <a:ext cx="4648320" cy="18954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3"/>
          <a:stretch/>
        </p:blipFill>
        <p:spPr>
          <a:xfrm>
            <a:off x="285840" y="13161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4"/>
          <a:stretch/>
        </p:blipFill>
        <p:spPr>
          <a:xfrm>
            <a:off x="285840" y="17859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5"/>
          <a:stretch/>
        </p:blipFill>
        <p:spPr>
          <a:xfrm>
            <a:off x="285840" y="221472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6"/>
          <a:stretch/>
        </p:blipFill>
        <p:spPr>
          <a:xfrm>
            <a:off x="285840" y="2774880"/>
            <a:ext cx="8786880" cy="7970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7"/>
          <a:stretch/>
        </p:blipFill>
        <p:spPr>
          <a:xfrm>
            <a:off x="285840" y="3759120"/>
            <a:ext cx="8786880" cy="7970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8"/>
          <a:stretch/>
        </p:blipFill>
        <p:spPr>
          <a:xfrm>
            <a:off x="285840" y="529128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9"/>
          <a:stretch/>
        </p:blipFill>
        <p:spPr>
          <a:xfrm>
            <a:off x="285840" y="57405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10"/>
          <a:stretch/>
        </p:blipFill>
        <p:spPr>
          <a:xfrm>
            <a:off x="285840" y="6240600"/>
            <a:ext cx="87868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1" descr=""/>
          <p:cNvPicPr/>
          <p:nvPr/>
        </p:nvPicPr>
        <p:blipFill>
          <a:blip r:embed="rId1"/>
          <a:stretch/>
        </p:blipFill>
        <p:spPr>
          <a:xfrm>
            <a:off x="857160" y="1500120"/>
            <a:ext cx="6105600" cy="36864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2"/>
          <a:stretch/>
        </p:blipFill>
        <p:spPr>
          <a:xfrm>
            <a:off x="285840" y="205092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3"/>
          <a:stretch/>
        </p:blipFill>
        <p:spPr>
          <a:xfrm>
            <a:off x="285840" y="245412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4"/>
          <a:stretch/>
        </p:blipFill>
        <p:spPr>
          <a:xfrm>
            <a:off x="285840" y="296856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5"/>
          <a:stretch/>
        </p:blipFill>
        <p:spPr>
          <a:xfrm>
            <a:off x="285840" y="342900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6"/>
          <a:stretch/>
        </p:blipFill>
        <p:spPr>
          <a:xfrm>
            <a:off x="285840" y="386244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7"/>
          <a:stretch/>
        </p:blipFill>
        <p:spPr>
          <a:xfrm>
            <a:off x="285840" y="4440240"/>
            <a:ext cx="878688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1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5591160" cy="36288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2"/>
          <a:stretch/>
        </p:blipFill>
        <p:spPr>
          <a:xfrm>
            <a:off x="285840" y="206532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3"/>
          <a:stretch/>
        </p:blipFill>
        <p:spPr>
          <a:xfrm>
            <a:off x="285840" y="246852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4"/>
          <a:stretch/>
        </p:blipFill>
        <p:spPr>
          <a:xfrm>
            <a:off x="285840" y="29844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5"/>
          <a:stretch/>
        </p:blipFill>
        <p:spPr>
          <a:xfrm>
            <a:off x="285840" y="3443400"/>
            <a:ext cx="8786880" cy="8348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6"/>
          <a:stretch/>
        </p:blipFill>
        <p:spPr>
          <a:xfrm>
            <a:off x="285840" y="4473720"/>
            <a:ext cx="87868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30:46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